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F26-2C9C-43AC-9AAF-F0FEB1E5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2BE-545C-44C6-B21C-D6D70C4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5DA-4435-4C93-9768-B4FAA02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5A3-24A2-4F39-940A-E19AF7FA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596-4712-4C19-9B86-759B83C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5C5-6FEB-4464-A14B-656F479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6BE-33FC-42EE-923A-6B0584F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ED0-E1FA-42A5-8228-5CEAB4F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86D-F868-44FC-A473-4164B31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018-77B3-4772-B057-16C5FAC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32B-1BD2-4401-A0C9-C81FE36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1F2-FD65-4E55-9DF9-DD6F62A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0D92-C0AC-4B0B-8F6C-58B4B7D0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e, Cosine and Tang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full Special Angle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specify when an answer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52560" y="1219320"/>
          <a:ext cx="48337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48337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52360" y="2075040"/>
          <a:ext cx="44323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75040"/>
                    <a:ext cx="44323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54160" y="1219320"/>
          <a:ext cx="4430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3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54040" y="2125800"/>
          <a:ext cx="382608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125800"/>
                    <a:ext cx="3826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541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504800" y="2075040"/>
          <a:ext cx="3726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075040"/>
                    <a:ext cx="3726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52360" y="1219320"/>
          <a:ext cx="4432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219320"/>
                    <a:ext cx="4432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04880" y="2075040"/>
          <a:ext cx="35244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44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55840" y="2225520"/>
          <a:ext cx="3825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225520"/>
                    <a:ext cx="3825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0492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017720" y="1219320"/>
          <a:ext cx="463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19320"/>
                    <a:ext cx="463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54160" y="1219320"/>
          <a:ext cx="4429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29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52480" y="1219320"/>
          <a:ext cx="5033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19320"/>
                    <a:ext cx="5033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54160" y="1219320"/>
          <a:ext cx="4429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29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5416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52480" y="1219320"/>
          <a:ext cx="5033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19320"/>
                    <a:ext cx="5033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4160" y="1219320"/>
          <a:ext cx="4430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3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22Z</dcterms:modified>
  <cp:revision>6</cp:revision>
  <dc:subject/>
  <dc:title>Slide 1</dc:title>
</cp:coreProperties>
</file>